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296-09B5-47A0-AB7A-7F8F1CE5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256A-8475-4B50-9ABA-483760E2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FD6-5578-4DB3-8B9B-CB045A7D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356-EEDC-4576-81E0-7286468C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9D5E-6B13-4606-A064-27E54280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AC9-8F17-4933-8527-BDD873C1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145A-1A47-4657-B704-1615D666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F56-A64E-43CF-AC7D-C94E9B02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2DFA-E4B2-4852-A26E-8D34C636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DFF-9353-4FE3-8C02-8953C9FD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3EE-3E10-4C5F-9A97-0EAC849D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F54E-F739-4277-8922-0D96F13D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0229-837D-4B7A-A7BA-B8590E07D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raphical Analysis of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 will be turning graphs into words and numbers, as well as numbers and words into graph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Essenti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hat is the value of a grap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ni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How are velocity and acceleration rel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How are velocity, distance &amp; time rel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nte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does constant acceleration look like on a velocity time 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can you find velocity from a position time 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do you determine displacement on a position vs. tim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ior Knowledge Inven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In order to best serve you, I need to know what you already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I’m also interested in how well you understand new material and how you learn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ere do you want to be in ten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High school is a forum for you to explore a variety of disciplines and determine what you will be doing after grad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The more involved you are in high school life and the more thought you give to what you hope to become, the more relevant your education will be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eacher’s 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Arial"/>
              </a:rPr>
              <a:t>I believe that one of my biggest goals is to help prepare you for whatever it is you want to do after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Arial"/>
              </a:rPr>
              <a:t>The more I know about you and what you want out of life, the easier it will be for me to assis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… what’s the unit going to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Day 1:  Unstructured period learning about the sensors and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Days 2-5:  Structured Labs and Problem Sol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Days 6-9:  Structured Labs/Designing Lab or your choice w/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Day 10:  Present what you’ve learned to the rest of th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9:52:07Z</dcterms:created>
  <dc:creator>default student</dc:creator>
  <dc:description/>
  <dc:language>en-US</dc:language>
  <cp:lastModifiedBy>default student</cp:lastModifiedBy>
  <dcterms:modified xsi:type="dcterms:W3CDTF">2010-08-06T16:35:58Z</dcterms:modified>
  <cp:revision>5</cp:revision>
  <dc:subject/>
  <dc:title>Graphical Analysis of Motion</dc:title>
</cp:coreProperties>
</file>